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94F-F1B1-46F5-929E-373DC1E4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EA6-2020-47CB-8D23-E54F468F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94B-7F8D-4647-92E6-BDDC0FDB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B16-4211-4CA7-A906-889DC24C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39B-C75C-41A9-8838-8CD707F8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1C5-C56D-4613-8D80-23B28971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23B-866F-4E59-A307-09C05FD0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9D5-1BE5-4BB4-95AB-E6B6B659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341-829B-4AF9-9DBA-7C6CFD49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E3F-09E0-4A84-812D-B66FED6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593-756B-4BE4-B437-8955D62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163-0309-4DDC-B34F-8FEDE56B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FAC-8618-401B-BFCA-A8DBABD2E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 VIDAS    DE   LOS   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O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SON  LOS  RASGOS  MAS  IMPORTANTES  DE  LA  SUPERFICIE  DE   LA  TIERRA,  Y  SU  EXISTENCIA  Y   EVOLUCIÓN    CONTROLA  MUCHO   DE   LOS  PROCESOS  GEOLÓGICOS   MAS   NOTABLES   DEL  PLANE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UNO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HAN   APARECIDO   SOBRE    LA   FAZ   DE   LA  TIERRA     MAS   RECIENTEMENTE   QUE  OTROS,  Y   OTROS  EXISTEN   DESDE   TIEMPOS  MUY  ANTIGUO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AMBIÉN,   ALGUNAS  PARTES  DE   UN  MISMO   OCÉANO  SON  MAS  VIEJAS   O   MAS  JÓVENES  QUE  O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SE  INICIA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NAC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A   PARTIR   DE   UN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RIFTING  CONTINENTAL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Y  TERMINAN   (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O  MUER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),     BAJO  EL  EFECTO  DE  LA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UBDUCCIÓN   LITOSFÉR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 SU  DESARROLLO   ES  PROGRESIVO  Y  SU  EVOLUCIÓN   E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ÍCLIC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LAS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CUENCAS  OCEÁNICAS  CRECEN,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DESDE  SU INICIO,   DE   MUY  PEQUEÑAS  HASTA  UN  MÁXIMO,  Y  DESPUÉS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E  CONTRAEN  Y  RECOGE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(VUELVEN  A   SER   PEQUEÑOS),   HASTA DESAPARECER  EN  ALGUNO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CICLO  DE VIDA   DE  LOS  OCÉANO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FUE     PROPUESTO   POR    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TUZO  WILSON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 EN  1968,   QUIÉN  DEFINIÓ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SEIS  ETAPAS  DE   DESARROLL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   CADA  UNA  DE   ELLAS   REPRESENTADA   HOY   DÍA   SOBRE  LA  FAZ    DE    LA TIERRA,   POR   OCÉANOS   REALES,   O   POR     ESTRUCTURAS   GLOBALES   Y  PECULIARES  EXISTENTES  EN  DETERMINADOS  LUGARES DEL PLAN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ICLO    DE   VIDA    DE    LOS    OCÉANOS   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continuació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1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EMBRIONARIO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.   Ej:  RIFT -  VALLEYS  ESTE   AFRICAN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levant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2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ESTADO  JÓVEN.    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MAR  ROJO;  GOLFO  DE  ADÉN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n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3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 ESTADO   MADURO.     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  OCÉANO  ATLÁNTICO.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 dominante:  expasí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imes New Roman"/>
              </a:rPr>
              <a:t>ETAPA   4</a:t>
            </a:r>
            <a:r>
              <a:rPr b="0" i="1" lang="es-ES_tradnl" sz="1800" spc="-1" strike="noStrike">
                <a:solidFill>
                  <a:srgbClr val="ffffff"/>
                </a:solidFill>
                <a:latin typeface="Times New Roman"/>
              </a:rPr>
              <a:t>       ESTADO   DECLINANTE.        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j:  OCÉANO  PACÍFICO.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ovimiento dominante:  contr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5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ESTADO   TERMINAL.         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.  MAR  MEDITERRÁNEO.                              Movimiento  dominante:  contracción  y  levan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 baseline="-2000">
                <a:solidFill>
                  <a:srgbClr val="ffffff"/>
                </a:solidFill>
                <a:uFillTx/>
                <a:latin typeface="Times New Roman"/>
              </a:rPr>
              <a:t>ETAPA   6</a:t>
            </a:r>
            <a:r>
              <a:rPr b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s-ES_tradnl" sz="2800" spc="-1" strike="noStrike" baseline="-2000">
                <a:solidFill>
                  <a:srgbClr val="ffffff"/>
                </a:solidFill>
                <a:latin typeface="Times New Roman"/>
              </a:rPr>
              <a:t>ESTADO    RELICTO. (CICATRIZADO).   </a:t>
            </a:r>
            <a:r>
              <a:rPr b="0" lang="es-ES_tradnl" sz="2800" spc="-1" strike="noStrike" baseline="-2000">
                <a:solidFill>
                  <a:srgbClr val="ffffff"/>
                </a:solidFill>
                <a:latin typeface="Times New Roman"/>
              </a:rPr>
              <a:t>Ej:   SUTURA  ÍNDICA  DE   LOS   HIMALAYAS.  Movimiento  dominante:  </a:t>
            </a:r>
            <a:r>
              <a:rPr b="0" lang="es-ES_tradnl" sz="3200" spc="-1" strike="noStrike" baseline="-2000">
                <a:solidFill>
                  <a:srgbClr val="ffffff"/>
                </a:solidFill>
                <a:latin typeface="Times New Roman"/>
              </a:rPr>
              <a:t>contracción  y  levan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30T00:12:08Z</dcterms:created>
  <dc:creator>Universidad de Chile</dc:creator>
  <dc:description/>
  <dc:language>en-US</dc:language>
  <cp:lastModifiedBy>Universidad de Chile</cp:lastModifiedBy>
  <cp:lastPrinted>2001-06-30T01:22:51Z</cp:lastPrinted>
  <dcterms:modified xsi:type="dcterms:W3CDTF">2001-06-30T01:29:03Z</dcterms:modified>
  <cp:revision>2</cp:revision>
  <dc:subject/>
  <dc:title>CICLO    DE    VIDAS    DE   LOS   OCÉANOS</dc:title>
</cp:coreProperties>
</file>